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723-AF97-4AE4-8D6F-B13C143E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454-3F85-4526-8E3E-E0274182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6D7-2B96-4F0E-A3AA-227BD915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3A93-BFEA-42A5-B66C-720B5E87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DCC6-2B34-460B-AE76-9787E3D2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16C-7280-43AA-B3D4-251DF9D3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1340-6666-412D-B76C-890F8C96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350-4F94-497A-967F-40C85B67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BCD7-187D-43E4-922A-46DB11A2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ECB-18F2-4503-B603-609C7919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827-3390-4217-84AA-6BCCF119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E39-1E6B-4E6B-9918-2ADDE3E9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205A-ECA6-409E-B31F-0CE965C22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760" y="95400"/>
            <a:ext cx="882504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mmercial Water Use</a:t>
            </a:r>
            <a:br>
              <a:rPr sz="37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2200" y="6721560"/>
            <a:ext cx="1784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r. Mart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200" y="3083040"/>
            <a:ext cx="4097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thekoratpost.com/images/Pizzashop.jp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48480" y="3083040"/>
            <a:ext cx="35542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ccccff"/>
                </a:solidFill>
                <a:uFillTx/>
                <a:latin typeface="Arial"/>
              </a:rPr>
              <a:t>www.officeinmiami.com/office/815ponce.htm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4600" y="6002280"/>
            <a:ext cx="46576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nelsonmotel.co.nz/nm_images/pool_palms.jp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59280" y="1062000"/>
            <a:ext cx="3257640" cy="2005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8080" y="895320"/>
            <a:ext cx="3789360" cy="2084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125880" y="3441600"/>
            <a:ext cx="36385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0720" y="1734840"/>
            <a:ext cx="9420120" cy="31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ical Water Us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as all water used in any type of business, office or restaurant.  It also includes locations where people work, such as motels, prisons and military b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1680" y="1371600"/>
            <a:ext cx="9478800" cy="54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.9 Bgal/day drawn from ground water - 30 % of u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6.7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Bgal/day from public supply - 70 % of u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9.6 Bgal/day is used for  Commerical Water Use out of             340 Bgal/day used in the US/day -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3 % of all water used each day in the US is used for Commercial purpos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amount of people using water commercially varies widely by geography, season, and time of yea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1360" y="168120"/>
            <a:ext cx="9306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mmercial Water Usage In The U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39720" y="1406520"/>
            <a:ext cx="849168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amount of people using water commercially varies widely by geography, season, and time of yea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mounts for commerical water use are included as part of other uses, so the USGS does not provide individual state information. 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 concerns of commercial water uses are reliability of supply, water pollution, droughts, climate change affecting availabilty of water and cost.  Anything that impacts the availability of water will affect a businesses ability to operat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600" y="254160"/>
            <a:ext cx="8870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mmercial Water Use Statistic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